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FB55-BAB6-4E37-9B83-52F792F81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6258-7508-4433-B806-2993C0C6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399B-F0C6-4C56-B68C-68648793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4D93-DEA4-4BB0-99B2-B6DDA9F3F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8CEC-BBB7-42B2-B043-7ACDE4AA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979B-0CE3-48D0-B290-1B5A5599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A5B9-E8F1-45E0-A7D8-49BE233D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3E2F-8BD9-4F5A-987B-127685A0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E27D-6C74-4528-9A30-762F3C39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45D8-0FC2-49DE-94FE-EE6769BA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DE03-143C-4EC7-9F79-59955706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53E1-6B71-483C-BA44-CA6F6508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d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8F14-FEBD-4EAF-8294-0071A197F6F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ovéPole 2" descr=""/>
          <p:cNvPicPr/>
          <p:nvPr/>
        </p:nvPicPr>
        <p:blipFill>
          <a:blip r:embed="rId1"/>
          <a:stretch/>
        </p:blipFill>
        <p:spPr>
          <a:xfrm>
            <a:off x="1189080" y="1517760"/>
            <a:ext cx="6748560" cy="3511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ruhy mrak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imbostr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Obrázek 2" descr="nimbostratus5.jpg"/>
          <p:cNvPicPr/>
          <p:nvPr/>
        </p:nvPicPr>
        <p:blipFill>
          <a:blip r:embed="rId1"/>
          <a:stretch/>
        </p:blipFill>
        <p:spPr>
          <a:xfrm>
            <a:off x="971640" y="1700280"/>
            <a:ext cx="733428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umulonimb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Obrázek 4" descr="Cumulonimbus3.jpg"/>
          <p:cNvPicPr/>
          <p:nvPr/>
        </p:nvPicPr>
        <p:blipFill>
          <a:blip r:embed="rId1"/>
          <a:stretch/>
        </p:blipFill>
        <p:spPr>
          <a:xfrm>
            <a:off x="1042920" y="1700280"/>
            <a:ext cx="6931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irr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Obrázek 2" descr="Cirrus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332000" y="1628640"/>
            <a:ext cx="653076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irrostr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Obrázek 2" descr="cirrostratus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403280" y="1484280"/>
            <a:ext cx="658836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irrocumul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Obrázek 2" descr="Cirrocumulus2.jpg"/>
          <p:cNvPicPr/>
          <p:nvPr/>
        </p:nvPicPr>
        <p:blipFill>
          <a:blip r:embed="rId1"/>
          <a:stretch/>
        </p:blipFill>
        <p:spPr>
          <a:xfrm>
            <a:off x="971640" y="1557360"/>
            <a:ext cx="708012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Obrázek 3" descr="altostratus1.jpg"/>
          <p:cNvPicPr/>
          <p:nvPr/>
        </p:nvPicPr>
        <p:blipFill>
          <a:blip r:embed="rId1"/>
          <a:stretch/>
        </p:blipFill>
        <p:spPr>
          <a:xfrm>
            <a:off x="1116000" y="1341360"/>
            <a:ext cx="7056360" cy="5291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ltostr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ltocumul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Obrázek 3" descr="Altocumulus1.jpg"/>
          <p:cNvPicPr/>
          <p:nvPr/>
        </p:nvPicPr>
        <p:blipFill>
          <a:blip r:embed="rId1"/>
          <a:stretch/>
        </p:blipFill>
        <p:spPr>
          <a:xfrm>
            <a:off x="1116000" y="1628640"/>
            <a:ext cx="684072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umul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Obrázek 2" descr="cumulus.jpg"/>
          <p:cNvPicPr/>
          <p:nvPr/>
        </p:nvPicPr>
        <p:blipFill>
          <a:blip r:embed="rId1"/>
          <a:stretch/>
        </p:blipFill>
        <p:spPr>
          <a:xfrm>
            <a:off x="1116000" y="1341360"/>
            <a:ext cx="69120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Obrázek 2" descr="stratus4.jpg"/>
          <p:cNvPicPr/>
          <p:nvPr/>
        </p:nvPicPr>
        <p:blipFill>
          <a:blip r:embed="rId1"/>
          <a:stretch/>
        </p:blipFill>
        <p:spPr>
          <a:xfrm>
            <a:off x="1403280" y="1557360"/>
            <a:ext cx="6402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atocumul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Obrázek 3" descr="Stratocumulus1.jpg"/>
          <p:cNvPicPr/>
          <p:nvPr/>
        </p:nvPicPr>
        <p:blipFill>
          <a:blip r:embed="rId1"/>
          <a:stretch/>
        </p:blipFill>
        <p:spPr>
          <a:xfrm>
            <a:off x="1258920" y="1844640"/>
            <a:ext cx="652608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2:23:44Z</dcterms:created>
  <dc:creator>MD</dc:creator>
  <dc:description/>
  <dc:language>en-US</dc:language>
  <cp:lastModifiedBy>Radka Vasickova</cp:lastModifiedBy>
  <dcterms:modified xsi:type="dcterms:W3CDTF">2015-08-03T15:15:28Z</dcterms:modified>
  <cp:revision>18</cp:revision>
  <dc:subject/>
  <dc:title>Otázky</dc:title>
</cp:coreProperties>
</file>